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7EB-B401-40AD-A5F5-455B6928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EF2-1F1E-4CD8-A8FB-13F8A77A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52E-98E3-49C7-AFCC-FE907B87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E0D-69BC-4EB5-9B2D-3FFE0646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467-EBD8-49D3-A5C7-78B2A057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00A-EA95-4579-844A-6040ECFE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7AAF-0D8F-4356-917E-2DDB5CF2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993-FF32-4A11-9A77-483DD3C1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162-4F5B-4AE8-BB01-14B7526E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2F9-4C12-4B6A-B526-9F5FFA4F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350-F3C5-4484-B792-37793044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D18-E2F9-43F0-82B6-EF01D414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C5A4-9998-4F41-BA08-227438FFE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3124080"/>
            <a:ext cx="1828800" cy="3812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3124080"/>
            <a:ext cx="175284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3124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I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29400" y="3124080"/>
            <a:ext cx="167652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358000">
            <a:off x="799200" y="3009960"/>
            <a:ext cx="381240" cy="609480"/>
          </a:xfrm>
          <a:prstGeom prst="flowChartDocumen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La literatura mediev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76520"/>
            <a:ext cx="10670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743200"/>
            <a:ext cx="106704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080" y="1752480"/>
            <a:ext cx="11318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lmanzor saquea Santiago de Composte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gemonía musulman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65360" y="457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29528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5335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visión del califato en reinos de taifa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46440" y="68580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129528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71424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l Cid conquista Valenci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22960" y="3049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129528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28584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Fernando III conquista      Sevilla. Culmina el dominio sobre Andalucí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27720" y="457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129528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572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 instaura en Castilla la dinastía Trastámar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55720" y="1600200"/>
            <a:ext cx="10670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2590920"/>
            <a:ext cx="106704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6002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quista de Toledo. Avance de la Reconquista hacia el su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60840" y="16002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5909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160020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Batalla de Navas de Tolosa.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Los cristianos penetran en Andalucí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61040" y="16002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25909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158112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Alfonso X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l Sabio es nombrado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rey de León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y de Castill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1523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362320" y="29718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2096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01956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4872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9720" y="5543640"/>
            <a:ext cx="106704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5238720"/>
            <a:ext cx="106704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lo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54364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Glosas emilianenses y silenses. Primeros ejemplos de romance escrit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17640" y="41148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80988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41148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mposición de las jarchas más antiguas conservada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55720" y="5543640"/>
            <a:ext cx="1067040" cy="78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5238720"/>
            <a:ext cx="106704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554364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Fecha probable de composición del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Poema de mio Cid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8720" y="4114800"/>
            <a:ext cx="10670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809880"/>
            <a:ext cx="10670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2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41148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Gonzalo </a:t>
            </a:r>
            <a:br>
              <a:rPr sz="1100"/>
            </a:b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de Berceo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compone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Milagros de Nuestra Señor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46640" y="5543640"/>
            <a:ext cx="1066680" cy="78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523872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565164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Dante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escribe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l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Divina Comedi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32440" y="41148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380988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3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411480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on Juan Manue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compone el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ibro Patronio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onde Lucano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6840" y="554364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523872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3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554364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Juan Ruiz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escribe el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ibro de buen amor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08960" y="41148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80988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3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41148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López de Ayal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escribe el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Rimado de palaci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055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27672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8600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91440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46748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36572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1629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2940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01" descr=""/>
          <p:cNvPicPr/>
          <p:nvPr/>
        </p:nvPicPr>
        <p:blipFill>
          <a:blip r:embed="rId1"/>
          <a:stretch/>
        </p:blipFill>
        <p:spPr>
          <a:xfrm>
            <a:off x="7010280" y="16765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02" descr=""/>
          <p:cNvPicPr/>
          <p:nvPr/>
        </p:nvPicPr>
        <p:blipFill>
          <a:blip r:embed="rId2"/>
          <a:stretch/>
        </p:blipFill>
        <p:spPr>
          <a:xfrm>
            <a:off x="6324480" y="380880"/>
            <a:ext cx="565200" cy="857520"/>
          </a:xfrm>
          <a:prstGeom prst="rect">
            <a:avLst/>
          </a:prstGeom>
          <a:ln w="0">
            <a:noFill/>
          </a:ln>
        </p:spPr>
      </p:pic>
      <p:pic>
        <p:nvPicPr>
          <p:cNvPr id="121" name="03" descr=""/>
          <p:cNvPicPr/>
          <p:nvPr/>
        </p:nvPicPr>
        <p:blipFill>
          <a:blip r:embed="rId3"/>
          <a:stretch/>
        </p:blipFill>
        <p:spPr>
          <a:xfrm>
            <a:off x="4068720" y="1828800"/>
            <a:ext cx="609480" cy="762120"/>
          </a:xfrm>
          <a:prstGeom prst="rect">
            <a:avLst/>
          </a:prstGeom>
          <a:ln w="0">
            <a:noFill/>
          </a:ln>
        </p:spPr>
      </p:pic>
      <p:pic>
        <p:nvPicPr>
          <p:cNvPr id="122" name="04" descr=""/>
          <p:cNvPicPr/>
          <p:nvPr/>
        </p:nvPicPr>
        <p:blipFill>
          <a:blip r:embed="rId4"/>
          <a:stretch/>
        </p:blipFill>
        <p:spPr>
          <a:xfrm>
            <a:off x="3676680" y="5543640"/>
            <a:ext cx="514440" cy="780840"/>
          </a:xfrm>
          <a:prstGeom prst="rect">
            <a:avLst/>
          </a:prstGeom>
          <a:ln w="0">
            <a:noFill/>
          </a:ln>
        </p:spPr>
      </p:pic>
      <p:pic>
        <p:nvPicPr>
          <p:cNvPr id="123" name="05" descr=""/>
          <p:cNvPicPr/>
          <p:nvPr/>
        </p:nvPicPr>
        <p:blipFill>
          <a:blip r:embed="rId5"/>
          <a:stretch/>
        </p:blipFill>
        <p:spPr>
          <a:xfrm>
            <a:off x="4800600" y="5562720"/>
            <a:ext cx="571680" cy="723960"/>
          </a:xfrm>
          <a:prstGeom prst="rect">
            <a:avLst/>
          </a:prstGeom>
          <a:ln w="0">
            <a:noFill/>
          </a:ln>
        </p:spPr>
      </p:pic>
      <p:pic>
        <p:nvPicPr>
          <p:cNvPr id="124" name="06" descr=""/>
          <p:cNvPicPr/>
          <p:nvPr/>
        </p:nvPicPr>
        <p:blipFill>
          <a:blip r:embed="rId6"/>
          <a:stretch/>
        </p:blipFill>
        <p:spPr>
          <a:xfrm>
            <a:off x="7543800" y="6095880"/>
            <a:ext cx="76212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5800" y="3124080"/>
            <a:ext cx="76960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rancisco Franco jefe del Estado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939-197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0"/>
            <a:ext cx="5105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La literatura durante el franquism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16765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30880" y="25146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30880" y="1676520"/>
            <a:ext cx="990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probación de la Ley Orgánica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l Estad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389640" y="175248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400800" y="25146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00800" y="176544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Llegada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el hombre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a la Lun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9720" y="556272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0880" y="525780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563868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ela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 familia de Pascual Duar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208160" y="38088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19320" y="13716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43000" y="38088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tirada d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os embajadores de los países miembros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 la ONU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238880" y="5486400"/>
            <a:ext cx="10670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250040" y="518148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162920" y="5486400"/>
            <a:ext cx="12078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Gonzalo Torrente Ballester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ublic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a saga/fuga de J.B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608960" y="60948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0120" y="13716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543800" y="685800"/>
            <a:ext cx="1143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ere Franco. Juan Carlos I, rey de Españ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341520" y="60948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52680" y="137160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276720" y="60948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ña entra a formar par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la O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rot="5358000">
            <a:off x="227880" y="3199680"/>
            <a:ext cx="534960" cy="380880"/>
          </a:xfrm>
          <a:prstGeom prst="flowChartDocumen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198800">
            <a:off x="8379360" y="3126240"/>
            <a:ext cx="534960" cy="533520"/>
          </a:xfrm>
          <a:prstGeom prst="flowChartDocumen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6040" y="1828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" y="25146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0880" y="18288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n de la Segunda Guerra Mundial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133720" y="16765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144880" y="25146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144880" y="16732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rma del tratado de ayuda militar con EE.UU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84120" y="4340160"/>
            <a:ext cx="1067040" cy="68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95280" y="403560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19320" y="441648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ámaso Alonso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 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Hijos de la ir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51160" y="555948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362320" y="525456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0" y="56358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Buero Vallejo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strena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Historia de una escalera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60840" y="563868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0" y="533412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95680" y="57150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Luis Matín Santos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de silencio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75240" y="5335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86400" y="13716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0080" y="533520"/>
            <a:ext cx="1143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ucesos revolucionarios en Francia: “mayo del 68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265560" y="43434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76720" y="403848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200400" y="441972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Cela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ublica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a Colmen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932440" y="4343400"/>
            <a:ext cx="10666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3600" y="403848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67280" y="441972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ción de la antología poétic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Nueve novísimos poetas español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8188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934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992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8620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6668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9907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5248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914400" y="36572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17524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2895480" y="36572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6576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5105520" y="3657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64771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7772400" y="36572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37" descr=""/>
          <p:cNvPicPr/>
          <p:nvPr/>
        </p:nvPicPr>
        <p:blipFill>
          <a:blip r:embed="rId1"/>
          <a:stretch/>
        </p:blipFill>
        <p:spPr>
          <a:xfrm>
            <a:off x="7315200" y="2133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61" name="38" descr=""/>
          <p:cNvPicPr/>
          <p:nvPr/>
        </p:nvPicPr>
        <p:blipFill>
          <a:blip r:embed="rId2"/>
          <a:stretch/>
        </p:blipFill>
        <p:spPr>
          <a:xfrm>
            <a:off x="3505320" y="4800600"/>
            <a:ext cx="914400" cy="633240"/>
          </a:xfrm>
          <a:prstGeom prst="rect">
            <a:avLst/>
          </a:prstGeom>
          <a:ln w="0">
            <a:noFill/>
          </a:ln>
        </p:spPr>
      </p:pic>
      <p:pic>
        <p:nvPicPr>
          <p:cNvPr id="762" name="FC" descr=""/>
          <p:cNvPicPr/>
          <p:nvPr/>
        </p:nvPicPr>
        <p:blipFill>
          <a:blip r:embed="rId3"/>
          <a:stretch/>
        </p:blipFill>
        <p:spPr>
          <a:xfrm>
            <a:off x="2857680" y="838080"/>
            <a:ext cx="55224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609480" y="3124080"/>
            <a:ext cx="16002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09880" y="3124080"/>
            <a:ext cx="175284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562720" y="3124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I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315200" y="3124080"/>
            <a:ext cx="167652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La literatura hispanoamerican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09480" y="2362320"/>
            <a:ext cx="16002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NACIMIEN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26920" y="457200"/>
            <a:ext cx="10670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38080" y="1523880"/>
            <a:ext cx="10670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2120" y="53352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l inca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Garcilaso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 la Vega.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omentarios rea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36960" y="380880"/>
            <a:ext cx="10666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048120" y="1523880"/>
            <a:ext cx="10666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84720" y="76212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095880" y="152388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19920" y="7621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Julio Cortáza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vela.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Rayue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655720" y="5543640"/>
            <a:ext cx="1067040" cy="78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66880" y="5238720"/>
            <a:ext cx="1067040" cy="2286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6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590920" y="554364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or Juana Inés de la Cruz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esía.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 sueñ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313320" y="5543640"/>
            <a:ext cx="1067040" cy="78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24480" y="523872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248520" y="565164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César Vallejo.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Poesí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Tril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761240" y="5543640"/>
            <a:ext cx="1066680" cy="78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772400" y="523872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696080" y="554364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Vicente Huidobro.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Poesía.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Altazo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09680" y="3124080"/>
            <a:ext cx="1676520" cy="3812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86200" y="2362320"/>
            <a:ext cx="2133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EOCLASICIS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81680" y="236232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ODERNIS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467480" y="2743200"/>
            <a:ext cx="15242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OOM” NARRATIV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09680" y="3962520"/>
            <a:ext cx="1600200" cy="2286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ARRO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91320" y="3962520"/>
            <a:ext cx="12952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OMANTICIS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543800" y="3962520"/>
            <a:ext cx="12952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VANGUARDIS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50960" y="5105520"/>
            <a:ext cx="1066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62120" y="4800600"/>
            <a:ext cx="1066680" cy="2286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85800" y="510552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Juan Ruiz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de Alarcó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eatro.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 verdad sospechos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637160" y="4876920"/>
            <a:ext cx="1066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648320" y="45720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572000" y="487692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José Hernández.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oesía narrativa.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El gaucho Martín Fierr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684920" y="457200"/>
            <a:ext cx="10670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696080" y="152388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620120" y="53352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Gabriel García Márquez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 Novela.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ien años de soleda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637160" y="76212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48320" y="152388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3716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971800" y="4572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ndrés Bello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oesía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 agricultura de la zona tórrid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72000" y="7621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ubén Darí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esía.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Azul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3059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78168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781680" y="2057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257800" y="2209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3915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2133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7242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9718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371600" y="4419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27672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51814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181480" y="4419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477120" y="41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1532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858000" y="4419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5800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30592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39" descr=""/>
          <p:cNvPicPr/>
          <p:nvPr/>
        </p:nvPicPr>
        <p:blipFill>
          <a:blip r:embed="rId1"/>
          <a:stretch/>
        </p:blipFill>
        <p:spPr>
          <a:xfrm>
            <a:off x="3581280" y="5715000"/>
            <a:ext cx="6559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080" y="3124080"/>
            <a:ext cx="25146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 II de Castilla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406-145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3124080"/>
            <a:ext cx="25146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rique IV de Castilla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454-147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3124080"/>
            <a:ext cx="22860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sabel I de Castilla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474-150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358000">
            <a:off x="228240" y="3044520"/>
            <a:ext cx="533160" cy="685800"/>
          </a:xfrm>
          <a:prstGeom prst="flowChartDocumen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El Prerrenacimi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1120" y="1523880"/>
            <a:ext cx="10670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1120" y="2590920"/>
            <a:ext cx="106704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1600200"/>
            <a:ext cx="11318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 inicia la construcción de la catedral gótica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e Sevilla.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60440" y="457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129528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5335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uerras entre Castilla y Arag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65560" y="152280"/>
            <a:ext cx="10666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129528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11736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oma de Nápoles por Alfonso V. Hegemonía de Aragón en el Mediterráne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18040" y="3240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131436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3808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utenberg imprime la Biblia, primera obra impres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27720" y="152280"/>
            <a:ext cx="10670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1295280"/>
            <a:ext cx="106704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15228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quista de Granada, expulsión de los judíos y descubrimiento de Améric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4840" y="1828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259092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19177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beliones nobiliarias en Castil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03640" y="1828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25909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193356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Nace Leonardo da Vinc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32440" y="161928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261000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16732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Matrimonio de Fernando de Aragón e Isabel de Castill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1523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36196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240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158000">
            <a:off x="8229240" y="3047760"/>
            <a:ext cx="533520" cy="685800"/>
          </a:xfrm>
          <a:prstGeom prst="flowChartDocumen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79760" y="4572000"/>
            <a:ext cx="106668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4267080"/>
            <a:ext cx="10666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4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457200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Alfonso de Baen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recoge el primer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Cancionero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de poesía castellan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9560" y="4572000"/>
            <a:ext cx="106668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267080"/>
            <a:ext cx="10666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4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62924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marqués de Santillan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escribe l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Comedieta de Ponz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03840" y="4572000"/>
            <a:ext cx="106668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26708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473724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iego de San Pedr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escribe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árcel de am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03640" y="4572000"/>
            <a:ext cx="1066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426708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7214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Jorge Manrique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compone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las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Coplas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4572000"/>
            <a:ext cx="106668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426708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05704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56272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600200" y="3657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048120" y="3657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648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019920" y="36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400800" y="3657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620120" y="3657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62920" y="48006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 publica</a:t>
            </a: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a Celestin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08" descr=""/>
          <p:cNvPicPr/>
          <p:nvPr/>
        </p:nvPicPr>
        <p:blipFill>
          <a:blip r:embed="rId1"/>
          <a:stretch/>
        </p:blipFill>
        <p:spPr>
          <a:xfrm>
            <a:off x="1081080" y="1600200"/>
            <a:ext cx="59544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07" descr=""/>
          <p:cNvPicPr/>
          <p:nvPr/>
        </p:nvPicPr>
        <p:blipFill>
          <a:blip r:embed="rId2"/>
          <a:stretch/>
        </p:blipFill>
        <p:spPr>
          <a:xfrm>
            <a:off x="3638520" y="1676520"/>
            <a:ext cx="552600" cy="838080"/>
          </a:xfrm>
          <a:prstGeom prst="rect">
            <a:avLst/>
          </a:prstGeom>
          <a:ln w="0">
            <a:noFill/>
          </a:ln>
        </p:spPr>
      </p:pic>
      <p:pic>
        <p:nvPicPr>
          <p:cNvPr id="191" name="09" descr=""/>
          <p:cNvPicPr/>
          <p:nvPr/>
        </p:nvPicPr>
        <p:blipFill>
          <a:blip r:embed="rId3"/>
          <a:stretch/>
        </p:blipFill>
        <p:spPr>
          <a:xfrm>
            <a:off x="6858000" y="1752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10" descr=""/>
          <p:cNvPicPr/>
          <p:nvPr/>
        </p:nvPicPr>
        <p:blipFill>
          <a:blip r:embed="rId4"/>
          <a:stretch/>
        </p:blipFill>
        <p:spPr>
          <a:xfrm>
            <a:off x="7772400" y="5181480"/>
            <a:ext cx="838080" cy="560520"/>
          </a:xfrm>
          <a:prstGeom prst="rect">
            <a:avLst/>
          </a:prstGeom>
          <a:ln w="0">
            <a:noFill/>
          </a:ln>
        </p:spPr>
      </p:pic>
      <p:pic>
        <p:nvPicPr>
          <p:cNvPr id="193" name="11" descr=""/>
          <p:cNvPicPr/>
          <p:nvPr/>
        </p:nvPicPr>
        <p:blipFill>
          <a:blip r:embed="rId5"/>
          <a:stretch/>
        </p:blipFill>
        <p:spPr>
          <a:xfrm>
            <a:off x="4929120" y="4648320"/>
            <a:ext cx="6336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00200" y="3124080"/>
            <a:ext cx="14479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gencias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504-151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3124080"/>
            <a:ext cx="29718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inado de Carlos I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516-155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3124080"/>
            <a:ext cx="22860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inado de Felipe II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556-159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0"/>
            <a:ext cx="3353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La literatura renacentist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828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590920"/>
            <a:ext cx="106704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01880" y="1917720"/>
            <a:ext cx="1131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dición de la Biblia Políglota Compluten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380880"/>
            <a:ext cx="1066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14479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9960" y="4572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utero: tesis de Wittenberg. Comienza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la reforma protestan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75040" y="4222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12193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4572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érnico formula su teoría heliocéntric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03840" y="3240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31436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3808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az de Cateau-Cambrésis: hegemonía españo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37560" y="3049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29528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72400" y="28584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rrota de la Gran Armada; fin de la hegemonía españo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36960" y="16002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25909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82960" y="16002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Hernán Cortés en México.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 inicia la conquista de Améric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65760" y="16002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25909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16002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Comienzo del Concilio de Trento (1545-1563); cisma de la Iglesi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23160" y="161928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261000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16002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 inaugura el corral del Príncipe en Madrid; auge del teatr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158000">
            <a:off x="8381880" y="3047760"/>
            <a:ext cx="533520" cy="685800"/>
          </a:xfrm>
          <a:prstGeom prst="flowChartDocumen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22560" y="4952880"/>
            <a:ext cx="10666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46483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49528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 publican póstumamente los poemas de </a:t>
            </a: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Garcilaso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5257800"/>
            <a:ext cx="106668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495288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5315040"/>
            <a:ext cx="11318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ncuentro de Boscán con Navagero; introducción de las formas métricas italiana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65760" y="44197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411480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45846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anta Teres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escribe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 libro de la vid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94160" y="525780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495288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54072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 publica el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azarillo de Tormes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5880" y="5257800"/>
            <a:ext cx="106704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4952880"/>
            <a:ext cx="106704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54864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ray Luis de Leó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escribe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De los nombres de Cris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3124080"/>
            <a:ext cx="1219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yes Catól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3124080"/>
            <a:ext cx="137160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yes Catól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91520" y="4419720"/>
            <a:ext cx="106668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411480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464832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an Juan de la Cruz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escribe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lama de amor viv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37560" y="59436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5638680"/>
            <a:ext cx="106668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72400" y="594036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ervant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 Quijot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(1.ª part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1447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1676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2971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1880" y="1523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620120" y="2895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295280" y="3962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27672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7432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5053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3657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3412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3886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32448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705720" y="3657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92468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686800" y="36572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12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880920" cy="576360"/>
          </a:xfrm>
          <a:prstGeom prst="rect">
            <a:avLst/>
          </a:prstGeom>
          <a:ln w="0">
            <a:noFill/>
          </a:ln>
        </p:spPr>
      </p:pic>
      <p:pic>
        <p:nvPicPr>
          <p:cNvPr id="272" name="13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660600" cy="857520"/>
          </a:xfrm>
          <a:prstGeom prst="rect">
            <a:avLst/>
          </a:prstGeom>
          <a:ln w="0">
            <a:noFill/>
          </a:ln>
        </p:spPr>
      </p:pic>
      <p:pic>
        <p:nvPicPr>
          <p:cNvPr id="273" name="14" descr=""/>
          <p:cNvPicPr/>
          <p:nvPr/>
        </p:nvPicPr>
        <p:blipFill>
          <a:blip r:embed="rId3"/>
          <a:stretch/>
        </p:blipFill>
        <p:spPr>
          <a:xfrm>
            <a:off x="1905120" y="5638680"/>
            <a:ext cx="622080" cy="914400"/>
          </a:xfrm>
          <a:prstGeom prst="rect">
            <a:avLst/>
          </a:prstGeom>
          <a:ln w="0">
            <a:noFill/>
          </a:ln>
        </p:spPr>
      </p:pic>
      <p:pic>
        <p:nvPicPr>
          <p:cNvPr id="274" name="15" descr=""/>
          <p:cNvPicPr/>
          <p:nvPr/>
        </p:nvPicPr>
        <p:blipFill>
          <a:blip r:embed="rId4"/>
          <a:stretch/>
        </p:blipFill>
        <p:spPr>
          <a:xfrm>
            <a:off x="4038480" y="5943600"/>
            <a:ext cx="1143000" cy="549360"/>
          </a:xfrm>
          <a:prstGeom prst="rect">
            <a:avLst/>
          </a:prstGeom>
          <a:ln w="0">
            <a:noFill/>
          </a:ln>
        </p:spPr>
      </p:pic>
      <p:pic>
        <p:nvPicPr>
          <p:cNvPr id="275" name="16" descr=""/>
          <p:cNvPicPr/>
          <p:nvPr/>
        </p:nvPicPr>
        <p:blipFill>
          <a:blip r:embed="rId5"/>
          <a:stretch/>
        </p:blipFill>
        <p:spPr>
          <a:xfrm>
            <a:off x="7370640" y="5791320"/>
            <a:ext cx="630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3124080"/>
            <a:ext cx="274320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elipe III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598-162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3124080"/>
            <a:ext cx="312444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elipe IV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621-166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3124080"/>
            <a:ext cx="20574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arlos II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665-17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5358000">
            <a:off x="114120" y="3159000"/>
            <a:ext cx="533160" cy="457200"/>
          </a:xfrm>
          <a:prstGeom prst="flowChartDocumen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La literatura barro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371600"/>
            <a:ext cx="1066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6040" y="259092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137160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pulsión d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os moriscos: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 agrava la decadencia de la agricultura españo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17640" y="971640"/>
            <a:ext cx="10666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205740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10476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mienza la guerra de los Treinta Años: guerras de religi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70120" y="152280"/>
            <a:ext cx="10670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1295280"/>
            <a:ext cx="106704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05320" y="11736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mienza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s rebeliones e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 Península (Cataluña, Portugal y Andalucía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89440" y="152388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2133720"/>
            <a:ext cx="106668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24280" y="155268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Velázquez pint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as meninas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08960" y="152280"/>
            <a:ext cx="10666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0120" y="1295280"/>
            <a:ext cx="106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43800" y="20952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ere sin descendencia Carlos II, último rey de la casa de Austri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89640" y="1523880"/>
            <a:ext cx="1066680" cy="55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00800" y="2155680"/>
            <a:ext cx="106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155268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dependencia de Portug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158000">
            <a:off x="8418240" y="3234600"/>
            <a:ext cx="533160" cy="304920"/>
          </a:xfrm>
          <a:prstGeom prst="flowChartDocumen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36760" y="4267080"/>
            <a:ext cx="1066680" cy="108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396252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426708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Lope de Veg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Arte nuevo de hacer comedias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: renovación del teatro nacional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3760" y="5429160"/>
            <a:ext cx="106668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512460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54864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hakespeare escribe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Hamlet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: se inicia el gran siglo del teatro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37360" y="4933800"/>
            <a:ext cx="1066680" cy="7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4629240"/>
            <a:ext cx="106668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50292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lderó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estren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 vida es sueñ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90920" y="54864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02080" y="518148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25760" y="54864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Góngor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Fábula de Polifemo y Galat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5867280"/>
            <a:ext cx="10670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67480" y="5562720"/>
            <a:ext cx="106704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67480" y="589608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Gracián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El Criticón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5328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5328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5345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41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1480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907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22760" y="43434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403848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43434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ervantes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 la segunda parte del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Quijot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52880" y="5257800"/>
            <a:ext cx="106704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2880" y="5105520"/>
            <a:ext cx="106704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541008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 public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Historia del Buscón llamado don Pablos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, de</a:t>
            </a: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 Quevedo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37560" y="43434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48720" y="4038480"/>
            <a:ext cx="106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38080" y="3657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981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048120" y="36572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12408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257800" y="3657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56236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562720" y="36572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620120" y="4266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01956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019920" y="3657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80773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848720" y="441972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erte de Calderón: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n del Barroco literari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17" descr=""/>
          <p:cNvPicPr/>
          <p:nvPr/>
        </p:nvPicPr>
        <p:blipFill>
          <a:blip r:embed="rId1"/>
          <a:stretch/>
        </p:blipFill>
        <p:spPr>
          <a:xfrm>
            <a:off x="5568840" y="762120"/>
            <a:ext cx="679680" cy="838080"/>
          </a:xfrm>
          <a:prstGeom prst="rect">
            <a:avLst/>
          </a:prstGeom>
          <a:ln w="0">
            <a:noFill/>
          </a:ln>
        </p:spPr>
      </p:pic>
      <p:pic>
        <p:nvPicPr>
          <p:cNvPr id="345" name="18" descr=""/>
          <p:cNvPicPr/>
          <p:nvPr/>
        </p:nvPicPr>
        <p:blipFill>
          <a:blip r:embed="rId2"/>
          <a:stretch/>
        </p:blipFill>
        <p:spPr>
          <a:xfrm>
            <a:off x="1219320" y="5867280"/>
            <a:ext cx="730080" cy="838440"/>
          </a:xfrm>
          <a:prstGeom prst="rect">
            <a:avLst/>
          </a:prstGeom>
          <a:ln w="0">
            <a:noFill/>
          </a:ln>
        </p:spPr>
      </p:pic>
      <p:pic>
        <p:nvPicPr>
          <p:cNvPr id="346" name="19" descr=""/>
          <p:cNvPicPr/>
          <p:nvPr/>
        </p:nvPicPr>
        <p:blipFill>
          <a:blip r:embed="rId3"/>
          <a:stretch/>
        </p:blipFill>
        <p:spPr>
          <a:xfrm>
            <a:off x="2362320" y="4114800"/>
            <a:ext cx="603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57200" y="3124080"/>
            <a:ext cx="228600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elipe V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700-174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3124080"/>
            <a:ext cx="17524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ernando IV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746-175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3124080"/>
            <a:ext cx="22860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arlos III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759-178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81680" y="3124080"/>
            <a:ext cx="190512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arlos IV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788-180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5358000">
            <a:off x="-360" y="3199680"/>
            <a:ext cx="534960" cy="380880"/>
          </a:xfrm>
          <a:prstGeom prst="flowChartDocumen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4191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La literatura del siglo XVII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7440" y="533520"/>
            <a:ext cx="1066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7440" y="198108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280" y="609480"/>
            <a:ext cx="113184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mienza la guerra de Sucesión españo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stauración de la casa de Borbón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60440" y="1371600"/>
            <a:ext cx="1066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71600" y="243828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12-17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3716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undación de la Biblioteca Nacional y de la Real Academia Españo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94360" y="4572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14479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43812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 publica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ramátic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 la Real Academia Española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761240" y="685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772400" y="137160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96080" y="6984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uerra de la Independencia españo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14600" y="457200"/>
            <a:ext cx="1066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167652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49440" y="45720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 Real Academia comienza la publicación del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Diccionario de Autoridad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46440" y="152388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57600" y="251460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159696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 inicia en Francia la publicación de l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nciclopedi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18240" y="16765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29400" y="2666880"/>
            <a:ext cx="1066680" cy="228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53080" y="165744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volución francesa. Declaración de los Derechos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l Homb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0960" y="46483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434340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47242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eijo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inicia la publicación de su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eatro crítico univers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74840" y="5410080"/>
            <a:ext cx="10666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0" y="510552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5410080"/>
            <a:ext cx="11318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gnacio Luzá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su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Poétic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: se sientan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s bases del Neoclasicismo literari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520" y="4495680"/>
            <a:ext cx="10670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95680" y="4191120"/>
            <a:ext cx="10670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19720" y="449568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riarte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 sus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Fábulas literari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61040" y="5391000"/>
            <a:ext cx="1066680" cy="116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5086440"/>
            <a:ext cx="1066680" cy="228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5880" y="54990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 publican póstumamente las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artas marruec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dals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84920" y="4800600"/>
            <a:ext cx="10670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4495680"/>
            <a:ext cx="1067040" cy="228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48006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eandro Fernández Moratí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 sí de las niñ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155600">
            <a:off x="8571600" y="3238920"/>
            <a:ext cx="534960" cy="304920"/>
          </a:xfrm>
          <a:prstGeom prst="flowChartDocumen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05920" y="1600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3059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6868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1629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077320" y="3657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3868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911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56840" y="2743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812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057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57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295280" y="3657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743200" y="4038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98072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9810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95288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629400" y="4038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2940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7238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457200" y="3124080"/>
            <a:ext cx="129528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arlos IV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788-180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95480" y="3124080"/>
            <a:ext cx="21337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ernando VII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14-183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9200" y="3124080"/>
            <a:ext cx="1905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gencias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33-184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34320" y="3124080"/>
            <a:ext cx="19047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sabel II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43-186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5358000">
            <a:off x="-360" y="3199680"/>
            <a:ext cx="534960" cy="380880"/>
          </a:xfrm>
          <a:prstGeom prst="flowChartDocumen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El romanticis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1120" y="1828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2590920"/>
            <a:ext cx="10670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320" y="19177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mienza la guerra de la Independenci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713120" y="68580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24280" y="137160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48320" y="7621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imera guerra carlista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162920" y="45720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74080" y="1371600"/>
            <a:ext cx="1066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174080" y="4572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sabel II es declarada mayor de edad c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13 año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38280" y="18288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38280" y="266688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73480" y="19177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ernando VII deroga la Constituci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12920" y="304920"/>
            <a:ext cx="1067040" cy="99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124080" y="137484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304920"/>
            <a:ext cx="11430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onunciamiento de Riego: el rey se ve obligado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jurar la Constituci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26160" y="259092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15000" y="17524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ey de amnistía: vuelven los liberales exiliado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4640" y="4495680"/>
            <a:ext cx="10666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4191120"/>
            <a:ext cx="1066680" cy="228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45720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eandro Fernández de Moratín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stren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 sí de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s niñ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03440" y="464832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14600" y="434340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38280" y="464832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Larr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comienza a publicar sus      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Artículos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84920" y="48006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96080" y="4495680"/>
            <a:ext cx="10670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0120" y="48006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écqu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comienza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publicar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Rim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52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52480" y="3124080"/>
            <a:ext cx="114300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osé I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08-181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84120" y="457200"/>
            <a:ext cx="10670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600200"/>
            <a:ext cx="10670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9320" y="45720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s Corte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de Cádiz promulgan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 primera Constitución Españo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22760" y="1676520"/>
            <a:ext cx="1066680" cy="91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33920" y="267012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57600" y="167652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os Cien mil hijos de San Luis restauran el absolutismo en Españ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837560" y="196848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48720" y="2654280"/>
            <a:ext cx="1066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772400" y="208584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gunda guerra carlist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8288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288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0968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193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288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81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02884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7692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9343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34320" y="2362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467480" y="1599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818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27320" y="4419720"/>
            <a:ext cx="10670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411480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4495680"/>
            <a:ext cx="10670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l duque de Riv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estren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Don Álvaro o la fuerza del sin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41920" y="5715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553080" y="5410080"/>
            <a:ext cx="10670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53080" y="57913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Zorrill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estren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Don Juan Tenori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22960" y="50292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4120" y="472428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4120" y="510552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spronced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 estudiante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de Salamanc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30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534520" y="3657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16292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408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87692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76920" y="3886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48640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867280" y="36572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20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1200" cy="727200"/>
          </a:xfrm>
          <a:prstGeom prst="rect">
            <a:avLst/>
          </a:prstGeom>
          <a:ln w="0">
            <a:noFill/>
          </a:ln>
        </p:spPr>
      </p:pic>
      <p:pic>
        <p:nvPicPr>
          <p:cNvPr id="490" name="21" descr=""/>
          <p:cNvPicPr/>
          <p:nvPr/>
        </p:nvPicPr>
        <p:blipFill>
          <a:blip r:embed="rId2"/>
          <a:stretch/>
        </p:blipFill>
        <p:spPr>
          <a:xfrm>
            <a:off x="6629400" y="457200"/>
            <a:ext cx="633240" cy="762120"/>
          </a:xfrm>
          <a:prstGeom prst="rect">
            <a:avLst/>
          </a:prstGeom>
          <a:ln w="0">
            <a:noFill/>
          </a:ln>
        </p:spPr>
      </p:pic>
      <p:pic>
        <p:nvPicPr>
          <p:cNvPr id="491" name="22" descr=""/>
          <p:cNvPicPr/>
          <p:nvPr/>
        </p:nvPicPr>
        <p:blipFill>
          <a:blip r:embed="rId3"/>
          <a:stretch/>
        </p:blipFill>
        <p:spPr>
          <a:xfrm>
            <a:off x="2209680" y="5181480"/>
            <a:ext cx="646200" cy="838440"/>
          </a:xfrm>
          <a:prstGeom prst="rect">
            <a:avLst/>
          </a:prstGeom>
          <a:ln w="0">
            <a:noFill/>
          </a:ln>
        </p:spPr>
      </p:pic>
      <p:pic>
        <p:nvPicPr>
          <p:cNvPr id="492" name="23" descr=""/>
          <p:cNvPicPr/>
          <p:nvPr/>
        </p:nvPicPr>
        <p:blipFill>
          <a:blip r:embed="rId4"/>
          <a:stretch/>
        </p:blipFill>
        <p:spPr>
          <a:xfrm>
            <a:off x="8318520" y="4876920"/>
            <a:ext cx="6969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124080"/>
            <a:ext cx="26668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sabel II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43-186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43200" y="3124080"/>
            <a:ext cx="21337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xenio Revolucionario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68-187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76920" y="3124080"/>
            <a:ext cx="19047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fonso XII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75-188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81680" y="3124080"/>
            <a:ext cx="23623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gencia de María Cristina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85-190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El realis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1120" y="1676520"/>
            <a:ext cx="10670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52280" y="2590920"/>
            <a:ext cx="10670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167652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volución en Francia. Manifiesto comunist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162920" y="45720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174080" y="1371600"/>
            <a:ext cx="10666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74080" y="4572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Nace Alfonso XIII, hijo póstumo de Alfonso XI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15000" y="1523880"/>
            <a:ext cx="1066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26160" y="259092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562720" y="1600200"/>
            <a:ext cx="12841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onunciamiento de Martínez Campos: restauración d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la monarquí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9720" y="5105520"/>
            <a:ext cx="10670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0880" y="4800600"/>
            <a:ext cx="10670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51814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ernán Caballero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 Gaviot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60640" y="5715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71800" y="541008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7150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Galdós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escribe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a Fontana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de Oro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84920" y="563580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96080" y="5330880"/>
            <a:ext cx="10670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56358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Emilia Pardo Bazán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os pazos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de Ullo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52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84120" y="91440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95280" y="1600200"/>
            <a:ext cx="10670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19320" y="9270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n de la segunda guerra carlist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027320" y="419112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38480" y="388620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38480" y="4267080"/>
            <a:ext cx="1067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Juan Valer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Pepita Jiménez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13320" y="4267080"/>
            <a:ext cx="10670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24480" y="3962520"/>
            <a:ext cx="10670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48520" y="434340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larí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 Regent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22960" y="548640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4120" y="518148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34120" y="556272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Galdó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 desheredad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951360" y="838080"/>
            <a:ext cx="1066680" cy="46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137484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83808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oclamación de la I Repúblic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60640" y="1755720"/>
            <a:ext cx="10666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71800" y="259704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95480" y="1752480"/>
            <a:ext cx="1143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stalla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“La Gloriosa”: destronamiento de Isabel I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65360" y="449568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76520" y="4191120"/>
            <a:ext cx="1066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45720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écquer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 su primera leyend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27672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7432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274320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7816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46748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724280" y="2743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9568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74284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432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8288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1440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0968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3657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2296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24" descr=""/>
          <p:cNvPicPr/>
          <p:nvPr/>
        </p:nvPicPr>
        <p:blipFill>
          <a:blip r:embed="rId1"/>
          <a:stretch/>
        </p:blipFill>
        <p:spPr>
          <a:xfrm>
            <a:off x="6629400" y="560520"/>
            <a:ext cx="685800" cy="658800"/>
          </a:xfrm>
          <a:prstGeom prst="rect">
            <a:avLst/>
          </a:prstGeom>
          <a:ln w="0">
            <a:noFill/>
          </a:ln>
        </p:spPr>
      </p:pic>
      <p:pic>
        <p:nvPicPr>
          <p:cNvPr id="556" name="25" descr=""/>
          <p:cNvPicPr/>
          <p:nvPr/>
        </p:nvPicPr>
        <p:blipFill>
          <a:blip r:embed="rId2"/>
          <a:stretch/>
        </p:blipFill>
        <p:spPr>
          <a:xfrm>
            <a:off x="3809880" y="594360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85800" y="3124080"/>
            <a:ext cx="39625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gencia de María Cristina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85-190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48320" y="3124080"/>
            <a:ext cx="40384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fonso XIII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902-193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El modernis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1120" y="1219320"/>
            <a:ext cx="106704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52280" y="2590920"/>
            <a:ext cx="10670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320" y="1219320"/>
            <a:ext cx="11318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acto de El Pardo: alternancia pacífica en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l poder de conservadore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y libera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22960" y="167652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34120" y="2590920"/>
            <a:ext cx="10666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34120" y="1676520"/>
            <a:ext cx="990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lfonso XIII alcanza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la mayoría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 eda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65960" y="83808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77120" y="144792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324480" y="838080"/>
            <a:ext cx="128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mana trágica” de Barcelon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9720" y="5711760"/>
            <a:ext cx="1067040" cy="68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880" y="5407200"/>
            <a:ext cx="10670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4920" y="578808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ubén Darío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Azul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36960" y="5715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48120" y="5410080"/>
            <a:ext cx="10666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71800" y="57150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alvador Rued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n trope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84920" y="5711760"/>
            <a:ext cx="1067040" cy="6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96080" y="541008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0120" y="57150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Unamun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Nieb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52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84120" y="990720"/>
            <a:ext cx="10670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95280" y="1600200"/>
            <a:ext cx="10670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19320" y="106668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 inicia la guerra de Cub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86200" y="43434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97360" y="4038480"/>
            <a:ext cx="10666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97360" y="4419720"/>
            <a:ext cx="1066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000000"/>
                </a:solidFill>
                <a:latin typeface="Times New Roman"/>
              </a:rPr>
              <a:t>Azorín</a:t>
            </a: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, Baroja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 Maeztu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redactan el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Manifiesto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13320" y="4343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24480" y="403848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248520" y="44197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Juan Ramón Jíménez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ejías pur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22960" y="571500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34120" y="541008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34120" y="57150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ntonio Machad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Soledad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08960" y="1828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620120" y="259092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43800" y="1905120"/>
            <a:ext cx="1143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icio de la Primera Guerra Mundial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03440" y="205740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14600" y="2590920"/>
            <a:ext cx="10666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205740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surrección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 Filipina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741320" y="4343400"/>
            <a:ext cx="10670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4038480"/>
            <a:ext cx="10670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676520" y="4419720"/>
            <a:ext cx="12189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ubén Darío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cude a España con motivo del IV Centenario del Descubrimiento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668760" y="380880"/>
            <a:ext cx="1066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68760" y="1447920"/>
            <a:ext cx="10666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57600" y="4572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l “Desastre”: pérdida de Cuba, Puerto Rico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y Filipina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1028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153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419720" y="274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9112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718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358000">
            <a:off x="227880" y="3199680"/>
            <a:ext cx="534960" cy="380880"/>
          </a:xfrm>
          <a:prstGeom prst="flowChartDocumen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58128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197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79132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22960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27" descr=""/>
          <p:cNvPicPr/>
          <p:nvPr/>
        </p:nvPicPr>
        <p:blipFill>
          <a:blip r:embed="rId1"/>
          <a:stretch/>
        </p:blipFill>
        <p:spPr>
          <a:xfrm>
            <a:off x="8001000" y="1066680"/>
            <a:ext cx="646200" cy="838440"/>
          </a:xfrm>
          <a:prstGeom prst="rect">
            <a:avLst/>
          </a:prstGeom>
          <a:ln w="0">
            <a:noFill/>
          </a:ln>
        </p:spPr>
      </p:pic>
      <p:pic>
        <p:nvPicPr>
          <p:cNvPr id="619" name="30" descr=""/>
          <p:cNvPicPr/>
          <p:nvPr/>
        </p:nvPicPr>
        <p:blipFill>
          <a:blip r:embed="rId2"/>
          <a:stretch/>
        </p:blipFill>
        <p:spPr>
          <a:xfrm>
            <a:off x="4952880" y="5715000"/>
            <a:ext cx="630360" cy="914400"/>
          </a:xfrm>
          <a:prstGeom prst="rect">
            <a:avLst/>
          </a:prstGeom>
          <a:ln w="0">
            <a:noFill/>
          </a:ln>
        </p:spPr>
      </p:pic>
      <p:pic>
        <p:nvPicPr>
          <p:cNvPr id="620" name="29" descr=""/>
          <p:cNvPicPr/>
          <p:nvPr/>
        </p:nvPicPr>
        <p:blipFill>
          <a:blip r:embed="rId3"/>
          <a:stretch/>
        </p:blipFill>
        <p:spPr>
          <a:xfrm>
            <a:off x="4632480" y="4800600"/>
            <a:ext cx="625320" cy="762120"/>
          </a:xfrm>
          <a:prstGeom prst="rect">
            <a:avLst/>
          </a:prstGeom>
          <a:ln w="0">
            <a:noFill/>
          </a:ln>
        </p:spPr>
      </p:pic>
      <p:pic>
        <p:nvPicPr>
          <p:cNvPr id="621" name="31" descr=""/>
          <p:cNvPicPr/>
          <p:nvPr/>
        </p:nvPicPr>
        <p:blipFill>
          <a:blip r:embed="rId4"/>
          <a:stretch/>
        </p:blipFill>
        <p:spPr>
          <a:xfrm>
            <a:off x="7238880" y="5715000"/>
            <a:ext cx="679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685800" y="3124080"/>
            <a:ext cx="39625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fonso XIII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902-193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48320" y="3124080"/>
            <a:ext cx="38098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gunda República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931-193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4191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La literatura de entreguerra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22960" y="1828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4120" y="2590920"/>
            <a:ext cx="1066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34120" y="1917720"/>
            <a:ext cx="99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oclamación de la Segunda Repúbl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389640" y="83808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00800" y="1447920"/>
            <a:ext cx="1066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248520" y="838080"/>
            <a:ext cx="128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Comienzo de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la guerra civil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69720" y="4419720"/>
            <a:ext cx="10670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0880" y="411480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4920" y="449568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Filippo T. Marinetti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ublica el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 Manifiesto futurist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741320" y="1828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752480" y="259092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76520" y="19051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icio de la Primera Guerra Mundi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08960" y="4419720"/>
            <a:ext cx="10666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20120" y="4114800"/>
            <a:ext cx="1066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449568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Muere </a:t>
            </a: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Federico García Lorc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61040" y="563868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172200" y="5334120"/>
            <a:ext cx="1066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172200" y="563868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Gerardo Dieg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la antología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Poesía español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1915-1931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08960" y="1828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20120" y="2590920"/>
            <a:ext cx="106668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543800" y="1905120"/>
            <a:ext cx="1143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Inicio de la Segunda Guerra Mundial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341520" y="1828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52680" y="259092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1828800"/>
            <a:ext cx="1143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imo de River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impone la Dictadur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5358000">
            <a:off x="227880" y="3199680"/>
            <a:ext cx="534960" cy="380880"/>
          </a:xfrm>
          <a:prstGeom prst="flowChartDocumen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332240" y="53352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129528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546120"/>
            <a:ext cx="99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undimiento de la Bolsa de Nueva Yor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rot="16300800">
            <a:off x="8379720" y="3126600"/>
            <a:ext cx="534960" cy="533520"/>
          </a:xfrm>
          <a:prstGeom prst="flowChartDocumen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6040" y="762120"/>
            <a:ext cx="10666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13716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880" y="7621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mana trágica” de Barcelon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438280" y="762120"/>
            <a:ext cx="1067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49440" y="129528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49440" y="83808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volución rus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65360" y="5864400"/>
            <a:ext cx="1066680" cy="68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676520" y="555948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600200" y="594036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Ramón Gómez de la Serna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crea l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greguerí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79760" y="4419720"/>
            <a:ext cx="1066680" cy="68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90920" y="41148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14600" y="44956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Juan Ramón Jiménez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Platero y y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657600" y="563868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68760" y="533412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505320" y="571500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Ortega y Gasset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a deshumanización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del arte.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65760" y="44197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76920" y="41148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00600" y="44956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elebración del tricentenario de la muerte de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Góngor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15328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297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5345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93432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00600" y="1523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2670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7180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9072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9907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209680" y="3657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12408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44197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1972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191120" y="3657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6705720" y="3657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815328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36" descr=""/>
          <p:cNvPicPr/>
          <p:nvPr/>
        </p:nvPicPr>
        <p:blipFill>
          <a:blip r:embed="rId1"/>
          <a:stretch/>
        </p:blipFill>
        <p:spPr>
          <a:xfrm>
            <a:off x="7391520" y="4876920"/>
            <a:ext cx="620640" cy="838080"/>
          </a:xfrm>
          <a:prstGeom prst="rect">
            <a:avLst/>
          </a:prstGeom>
          <a:ln w="0">
            <a:noFill/>
          </a:ln>
        </p:spPr>
      </p:pic>
      <p:pic>
        <p:nvPicPr>
          <p:cNvPr id="693" name="35" descr=""/>
          <p:cNvPicPr/>
          <p:nvPr/>
        </p:nvPicPr>
        <p:blipFill>
          <a:blip r:embed="rId2"/>
          <a:stretch/>
        </p:blipFill>
        <p:spPr>
          <a:xfrm>
            <a:off x="3048120" y="5410080"/>
            <a:ext cx="669960" cy="838440"/>
          </a:xfrm>
          <a:prstGeom prst="rect">
            <a:avLst/>
          </a:prstGeom>
          <a:ln w="0">
            <a:noFill/>
          </a:ln>
        </p:spPr>
      </p:pic>
      <p:pic>
        <p:nvPicPr>
          <p:cNvPr id="694" name="33" descr=""/>
          <p:cNvPicPr/>
          <p:nvPr/>
        </p:nvPicPr>
        <p:blipFill>
          <a:blip r:embed="rId3"/>
          <a:stretch/>
        </p:blipFill>
        <p:spPr>
          <a:xfrm>
            <a:off x="5715000" y="457200"/>
            <a:ext cx="781200" cy="563400"/>
          </a:xfrm>
          <a:prstGeom prst="rect">
            <a:avLst/>
          </a:prstGeom>
          <a:ln w="0">
            <a:noFill/>
          </a:ln>
        </p:spPr>
      </p:pic>
      <p:pic>
        <p:nvPicPr>
          <p:cNvPr id="695" name="34" descr=""/>
          <p:cNvPicPr/>
          <p:nvPr/>
        </p:nvPicPr>
        <p:blipFill>
          <a:blip r:embed="rId4"/>
          <a:stretch/>
        </p:blipFill>
        <p:spPr>
          <a:xfrm>
            <a:off x="8305920" y="1506600"/>
            <a:ext cx="76176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1:04:47Z</dcterms:created>
  <dc:creator>_</dc:creator>
  <dc:description/>
  <dc:language>en-US</dc:language>
  <cp:lastModifiedBy>Administrador</cp:lastModifiedBy>
  <cp:lastPrinted>2003-01-29T16:51:09Z</cp:lastPrinted>
  <dcterms:modified xsi:type="dcterms:W3CDTF">2003-01-29T18:42:30Z</dcterms:modified>
  <cp:revision>122</cp:revision>
  <dc:subject/>
  <dc:title>Sin título de diapositiva</dc:title>
</cp:coreProperties>
</file>